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488D-C4E6-43EC-AB39-A23FC231E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F61-68EB-4584-88DC-AD6DB4FB1E3C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252-5219-4FF0-9973-7CCD14304860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F928-BD8D-4644-93DD-AFB488571584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C67-75CC-4F15-B0AE-D7B92EF9BFA3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E3E-3CF4-4C23-BA04-3556270D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C09-C43C-4BC0-B40C-432DDA0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CD8-9F2C-4D7A-8A5B-D71C8C1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A6E-E4BF-4E41-82A9-7C8108F9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7D19-CAC3-4223-A9FB-39E812A9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316E-26A8-4EE4-9681-0AA1BFE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AEC-6CCB-4162-9B42-BAEB0271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2C4-ACCD-4621-A0E4-525D955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351D-7FDF-4443-97B5-AD87620B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E49-2D3F-42E8-950B-8EDD345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8566-729C-427A-9E7C-03EF21F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C5F-9509-4D38-8834-90C7DA91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1E69-11BA-48F2-A961-B71F73D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6142-C04C-43D8-B61F-6FDEFC7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25BB-6149-4F14-AB29-BEF8B9B9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114-ACCA-43CF-9BF8-F8E85B0E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CC53-A7D9-41C6-BC94-721AE6B1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517-C829-4035-9A40-E0C4724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E55-7C80-4A17-B6CE-7234797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191-3285-418A-A870-C77E1A4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232-BA59-4F42-B997-CB31DA8E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B82-1F27-4FCD-9348-E7B4448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FD3-8A8A-4ED5-8181-C1F5686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6A-37A0-4E4C-A135-4847F49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7461-76CE-4E3C-A47E-B9F1897E78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E91-A6D3-4245-ADD4-DF048C740F4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7"/>
          <p:cNvSpPr txBox="1"/>
          <p:nvPr/>
        </p:nvSpPr>
        <p:spPr>
          <a:xfrm>
            <a:off x="2604960" y="2157480"/>
            <a:ext cx="393408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ды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ященно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йны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msoB254F"/>
          <p:cNvPicPr/>
          <p:nvPr/>
        </p:nvPicPr>
        <p:blipFill>
          <a:blip r:embed="rId1"/>
          <a:stretch/>
        </p:blipFill>
        <p:spPr>
          <a:xfrm>
            <a:off x="137160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msoF6ADD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so57CE9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62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55308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3451320" y="91440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Ленинград. «Дорога жизни.»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мания. Трептов-пар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ник Воину-освободител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C:\Documents and Settings\1\Мои документы\Мои рисунки\6CAQEAEM3CAE9IR04CA8MVD0ICA2N2E08CAA7S7KNCA3HNHF4CA85WL4ICAPF80W5CAVHE3KVCAMYUS6NCAPX5VWKCAQSIOKJCAX41PAPCAOL1QCVCAZ2CKBMCAKGDSMTCAB76C87CA38LOI8CAQQDC02CASTWH3N.jpg"/>
          <p:cNvPicPr/>
          <p:nvPr/>
        </p:nvPicPr>
        <p:blipFill>
          <a:blip r:embed="rId1"/>
          <a:stretch/>
        </p:blipFill>
        <p:spPr>
          <a:xfrm>
            <a:off x="3854520" y="1371600"/>
            <a:ext cx="414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mso5CC67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рад Победы на Красной площади 24 июня 1945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mso135D3"/>
          <p:cNvPicPr/>
          <p:nvPr/>
        </p:nvPicPr>
        <p:blipFill>
          <a:blip r:embed="rId1"/>
          <a:stretch/>
        </p:blipFill>
        <p:spPr>
          <a:xfrm>
            <a:off x="1371600" y="14479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Изображение 256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991880" y="1295280"/>
            <a:ext cx="24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Хохлов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Василий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Times New Roman"/>
              </a:rPr>
              <a:t>Зиновьевич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1" descr="Изображение 242.jpg"/>
          <p:cNvPicPr/>
          <p:nvPr/>
        </p:nvPicPr>
        <p:blipFill>
          <a:blip r:embed="rId1"/>
          <a:stretch/>
        </p:blipFill>
        <p:spPr>
          <a:xfrm>
            <a:off x="4114800" y="53352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371600" y="175248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Образцов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Иван Павлович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5"/>
          <p:cNvSpPr txBox="1"/>
          <p:nvPr/>
        </p:nvSpPr>
        <p:spPr>
          <a:xfrm>
            <a:off x="1662120" y="1897200"/>
            <a:ext cx="5819760" cy="30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1-1945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097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5000760" y="642960"/>
            <a:ext cx="3857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Мялов Фёдор Викторович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анкист.  Командир танк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 учебки с боями прошёл   до  Праги и Вены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меет награды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572000" cy="34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0" y="3124080"/>
            <a:ext cx="4143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895840" cy="4495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4214880" y="304920"/>
            <a:ext cx="44290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Мялов Василий Викторович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офёр.  За рулём 54  год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Участвовал в Финской и Великой Отечественной  войнах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двозил  боеприпасы, снаряды для «Катюши» на передовую. 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 войны восстанавливал народное хозяйство.     Имеет награды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3389400" cy="4800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4724280" y="714240"/>
            <a:ext cx="4133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Рожков Василий Давыдович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Танкист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ри отступлении нашей армии его танк  в засаде зарыли в землю по башню. Он отстреливался до тех пор, пока не отошли наши солдаты. За  эту оборону  был  награждён орденом Красной Звезды 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Имеет  Орден Отечественной войны и мед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3962520" cy="335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2237040" cy="3962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295280" y="3429000"/>
            <a:ext cx="4848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Мельник Анатолий Григорьевич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Лётчик. Старший лейтенант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После ранения – радист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евал на  Украинском фронте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ошёл до Берлин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Награждён    Орденом Красной Звезды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Двумя  медалями  «За Отвагу»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едалями  «За взятие Варшавы» 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«За взятие Будапешта»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1905120" y="762120"/>
            <a:ext cx="236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Мартынов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икола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Михайлович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ерой Советского Союз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Награжден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еребряной Звездо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Соединенных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Штатов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324480" cy="5181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505320" y="304920"/>
            <a:ext cx="50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Рощупкин  Илья Григорьевич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4" descr="05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1905120" y="1905120"/>
            <a:ext cx="2209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Колотвин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Никола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асильевич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Защитник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Брестской крепости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Погиб в первые д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ойны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135.jpg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2283480" y="1828800"/>
            <a:ext cx="21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Мягков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Афанасий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Яковлевич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soD32C3"/>
          <p:cNvPicPr/>
          <p:nvPr/>
        </p:nvPicPr>
        <p:blipFill>
          <a:blip r:embed="rId1"/>
          <a:stretch/>
        </p:blipFill>
        <p:spPr>
          <a:xfrm>
            <a:off x="3316320" y="0"/>
            <a:ext cx="3556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140360" y="1557000"/>
            <a:ext cx="45576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7560" indent="-411120" algn="r">
              <a:lnSpc>
                <a:spcPct val="80000"/>
              </a:lnSpc>
              <a:spcBef>
                <a:spcPts val="675"/>
              </a:spcBef>
              <a:buClr>
                <a:srgbClr val="3232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Ранним утром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22 июня 1941 г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buClr>
                <a:srgbClr val="3232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Мирную тишину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городов и сёл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разорвали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взрывы бомб и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снарядов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Началась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Великая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Отечественная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547560" indent="-41112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0000"/>
                </a:solidFill>
                <a:latin typeface="Arial"/>
              </a:rPr>
              <a:t>война.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6" descr="888"/>
          <p:cNvPicPr/>
          <p:nvPr/>
        </p:nvPicPr>
        <p:blipFill>
          <a:blip r:embed="rId1"/>
          <a:stretch/>
        </p:blipFill>
        <p:spPr>
          <a:xfrm>
            <a:off x="1523880" y="1413000"/>
            <a:ext cx="3962520" cy="499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99"/>
          <p:cNvPicPr/>
          <p:nvPr/>
        </p:nvPicPr>
        <p:blipFill>
          <a:blip r:embed="rId2"/>
          <a:stretch/>
        </p:blipFill>
        <p:spPr>
          <a:xfrm>
            <a:off x="1979640" y="476280"/>
            <a:ext cx="45370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бровольцы записываются на фрон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msoD8EFD"/>
          <p:cNvPicPr/>
          <p:nvPr/>
        </p:nvPicPr>
        <p:blipFill>
          <a:blip r:embed="rId1"/>
          <a:stretch/>
        </p:blipFill>
        <p:spPr>
          <a:xfrm>
            <a:off x="29718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so98C11"/>
          <p:cNvPicPr/>
          <p:nvPr/>
        </p:nvPicPr>
        <p:blipFill>
          <a:blip r:embed="rId1"/>
          <a:stretch/>
        </p:blipFill>
        <p:spPr>
          <a:xfrm>
            <a:off x="1600200" y="228600"/>
            <a:ext cx="723888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19320" y="333000"/>
            <a:ext cx="767376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4 года шла война –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то 1418 дней и ночей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34 тысячи часов и…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20 миллионов погибших людей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20 миллионов, вы только представьте – если по каждому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з 20 миллионов в стране объявить минуту молчания,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трана будет молчать… 32 года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1:42:54Z</dcterms:created>
  <dc:creator>Элла</dc:creator>
  <dc:description/>
  <dc:language>en-US</dc:language>
  <cp:lastModifiedBy>Учитель</cp:lastModifiedBy>
  <dcterms:modified xsi:type="dcterms:W3CDTF">2012-02-12T04:23:23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