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200-B1AF-4424-8F2A-12E08822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FF9-1EC6-46D5-81B1-6A998AE2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646-4E87-4E99-90DB-B9D5FF51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80A-E627-4080-98D2-463CC636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153-2074-461B-B474-96A40EAB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234-AC4A-4619-9271-7F2C57A6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DF5-ECD1-44D4-857F-CF9C2910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1F1-BE62-4CA7-9C30-75E7549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D6D-BB4C-404F-9F86-2565DE5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8B3-37F7-4A76-B697-119A740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6A9-C0A7-47ED-897B-A54D7070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A67-40AB-4D8C-B2CF-E0906D9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4A36-6370-47F9-8C9B-631D3A7BD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1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841e"/>
                </a:solidFill>
                <a:latin typeface="Monotype Corsiva"/>
              </a:rPr>
              <a:t>Н.М.Карамз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4760" y="1219320"/>
            <a:ext cx="3352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оэ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Сказ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Истори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Основатель русского сентимент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ублиц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Филос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оли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Лингв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Реформатор 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еревод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атри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Кри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утешеств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17" descr="Рисунок1.jpg"/>
          <p:cNvPicPr/>
          <p:nvPr/>
        </p:nvPicPr>
        <p:blipFill>
          <a:blip r:embed="rId2"/>
          <a:stretch/>
        </p:blipFill>
        <p:spPr>
          <a:xfrm>
            <a:off x="5638680" y="2743200"/>
            <a:ext cx="2914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520" y="1447560"/>
            <a:ext cx="40388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8900"/>
                </a:solidFill>
                <a:latin typeface="Arial"/>
              </a:rPr>
              <a:t>«…чистая,  высокая  слава  Карамзина  принадлежит 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8900"/>
                </a:solidFill>
                <a:latin typeface="Arial"/>
              </a:rPr>
              <a:t>А.С. 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D:\Desktop\hohmodrom_3049.jpg"/>
          <p:cNvPicPr/>
          <p:nvPr/>
        </p:nvPicPr>
        <p:blipFill>
          <a:blip r:embed="rId1"/>
          <a:stretch/>
        </p:blipFill>
        <p:spPr>
          <a:xfrm>
            <a:off x="4495680" y="468360"/>
            <a:ext cx="44197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7094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2274840"/>
                <a:gridCol w="138276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ЧЕСТЬ И БЕСЧЕ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«Страшнее чести изменить, чем быть в отрепьях рваны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(Р. Берн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РУЖБА И ВРАЖ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«Тот тебе друг, кто в несчастье помогает делом, когда в этом есть необходимость»  (Плав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БЕДА И ПО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«Все победы начинаются с победы над самим соб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(Л. Леон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ПЫТ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«Страх перед возможностью ошибки не должен отвратить нас от поисков истин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(Гельвец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АЗУМ И ЧУВ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Ясаков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ергеева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абин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Шадрин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стека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горина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вакимян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ысае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брезанова 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аранов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ыжова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Каюкова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лухов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околов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Ярмухаметов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Пушк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питанская доч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вгений Онег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убров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 Достое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дио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Горь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н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ушк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вгений Онег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нчаров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блом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Турген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тцы и де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Толст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йна и ми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Экзюп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ленький принц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Грибо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оре от у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ушки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вгений Онег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нчар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блом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Достое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ступление и наказани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Толс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ётр Перв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Лермо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ерой нашего времен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йна и ми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Шолох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удьба челове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. Паустовский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легр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. Уайль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рет Дориана Гре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Новый ри_0"/>
          <p:cNvPicPr/>
          <p:nvPr/>
        </p:nvPicPr>
        <p:blipFill>
          <a:blip r:embed="rId1"/>
          <a:stretch/>
        </p:blipFill>
        <p:spPr>
          <a:xfrm>
            <a:off x="3581280" y="3276720"/>
            <a:ext cx="1704960" cy="227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48" name="Овал 5"/>
          <p:cNvGrpSpPr/>
          <p:nvPr/>
        </p:nvGrpSpPr>
        <p:grpSpPr>
          <a:xfrm>
            <a:off x="731880" y="1719360"/>
            <a:ext cx="1657440" cy="974520"/>
            <a:chOff x="731880" y="1719360"/>
            <a:chExt cx="1657440" cy="974520"/>
          </a:xfrm>
        </p:grpSpPr>
        <p:pic>
          <p:nvPicPr>
            <p:cNvPr id="49" name="Овал 5" descr=""/>
            <p:cNvPicPr/>
            <p:nvPr/>
          </p:nvPicPr>
          <p:blipFill>
            <a:blip r:embed="rId2"/>
            <a:stretch/>
          </p:blipFill>
          <p:spPr>
            <a:xfrm>
              <a:off x="731880" y="1719360"/>
              <a:ext cx="16574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6840" y="1886040"/>
              <a:ext cx="1130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ЧЕСТЬ И БЕСЧЕСТ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Овал 6"/>
          <p:cNvGrpSpPr/>
          <p:nvPr/>
        </p:nvGrpSpPr>
        <p:grpSpPr>
          <a:xfrm>
            <a:off x="6827760" y="1719360"/>
            <a:ext cx="1719360" cy="974520"/>
            <a:chOff x="6827760" y="1719360"/>
            <a:chExt cx="1719360" cy="974520"/>
          </a:xfrm>
        </p:grpSpPr>
        <p:pic>
          <p:nvPicPr>
            <p:cNvPr id="52" name="Овал 6" descr=""/>
            <p:cNvPicPr/>
            <p:nvPr/>
          </p:nvPicPr>
          <p:blipFill>
            <a:blip r:embed="rId3"/>
            <a:stretch/>
          </p:blipFill>
          <p:spPr>
            <a:xfrm>
              <a:off x="6827760" y="1719360"/>
              <a:ext cx="17193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104240" y="1886040"/>
              <a:ext cx="11840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ПОБЕДА И ПОРАЖ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Овал 7"/>
          <p:cNvGrpSpPr/>
          <p:nvPr/>
        </p:nvGrpSpPr>
        <p:grpSpPr>
          <a:xfrm>
            <a:off x="6138720" y="4694400"/>
            <a:ext cx="1505160" cy="957240"/>
            <a:chOff x="6138720" y="4694400"/>
            <a:chExt cx="1505160" cy="957240"/>
          </a:xfrm>
        </p:grpSpPr>
        <p:pic>
          <p:nvPicPr>
            <p:cNvPr id="55" name="Овал 7" descr=""/>
            <p:cNvPicPr/>
            <p:nvPr/>
          </p:nvPicPr>
          <p:blipFill>
            <a:blip r:embed="rId4"/>
            <a:stretch/>
          </p:blipFill>
          <p:spPr>
            <a:xfrm>
              <a:off x="6138720" y="4694400"/>
              <a:ext cx="1505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384960" y="4857840"/>
              <a:ext cx="1022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ОПЫТ И ОШИБ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Овал 8"/>
          <p:cNvGrpSpPr/>
          <p:nvPr/>
        </p:nvGrpSpPr>
        <p:grpSpPr>
          <a:xfrm>
            <a:off x="3548160" y="122400"/>
            <a:ext cx="1504800" cy="968040"/>
            <a:chOff x="3548160" y="122400"/>
            <a:chExt cx="1504800" cy="968040"/>
          </a:xfrm>
        </p:grpSpPr>
        <p:pic>
          <p:nvPicPr>
            <p:cNvPr id="58" name="Овал 8" descr=""/>
            <p:cNvPicPr/>
            <p:nvPr/>
          </p:nvPicPr>
          <p:blipFill>
            <a:blip r:embed="rId5"/>
            <a:stretch/>
          </p:blipFill>
          <p:spPr>
            <a:xfrm>
              <a:off x="3548160" y="122400"/>
              <a:ext cx="150480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794040" y="285840"/>
              <a:ext cx="1022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РАЗУМ И ЧУВ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Овал 9"/>
          <p:cNvGrpSpPr/>
          <p:nvPr/>
        </p:nvGrpSpPr>
        <p:grpSpPr>
          <a:xfrm>
            <a:off x="1262160" y="4694400"/>
            <a:ext cx="1504800" cy="968040"/>
            <a:chOff x="1262160" y="4694400"/>
            <a:chExt cx="1504800" cy="968040"/>
          </a:xfrm>
        </p:grpSpPr>
        <p:pic>
          <p:nvPicPr>
            <p:cNvPr id="61" name="Овал 9" descr=""/>
            <p:cNvPicPr/>
            <p:nvPr/>
          </p:nvPicPr>
          <p:blipFill>
            <a:blip r:embed="rId6"/>
            <a:stretch/>
          </p:blipFill>
          <p:spPr>
            <a:xfrm>
              <a:off x="1262160" y="4694400"/>
              <a:ext cx="150480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508040" y="4857840"/>
              <a:ext cx="1022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ДРУЖБА И ВРАЖ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 10"/>
          <p:cNvGrpSpPr/>
          <p:nvPr/>
        </p:nvGrpSpPr>
        <p:grpSpPr>
          <a:xfrm>
            <a:off x="347760" y="2712960"/>
            <a:ext cx="2419200" cy="438120"/>
            <a:chOff x="347760" y="2712960"/>
            <a:chExt cx="2419200" cy="438120"/>
          </a:xfrm>
        </p:grpSpPr>
        <p:pic>
          <p:nvPicPr>
            <p:cNvPr id="64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347760" y="2712960"/>
              <a:ext cx="241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2743200"/>
              <a:ext cx="23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Наталья, боярская дочь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Прямоугольник 11"/>
          <p:cNvGrpSpPr/>
          <p:nvPr/>
        </p:nvGrpSpPr>
        <p:grpSpPr>
          <a:xfrm>
            <a:off x="731880" y="5761080"/>
            <a:ext cx="2724120" cy="438120"/>
            <a:chOff x="731880" y="5761080"/>
            <a:chExt cx="2724120" cy="438120"/>
          </a:xfrm>
        </p:grpSpPr>
        <p:pic>
          <p:nvPicPr>
            <p:cNvPr id="67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31880" y="5761080"/>
              <a:ext cx="27241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62120" y="5791320"/>
              <a:ext cx="2666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Чувствительный и холодный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12"/>
          <p:cNvGrpSpPr/>
          <p:nvPr/>
        </p:nvGrpSpPr>
        <p:grpSpPr>
          <a:xfrm>
            <a:off x="347760" y="3243240"/>
            <a:ext cx="2419200" cy="438120"/>
            <a:chOff x="347760" y="3243240"/>
            <a:chExt cx="2419200" cy="438120"/>
          </a:xfrm>
        </p:grpSpPr>
        <p:pic>
          <p:nvPicPr>
            <p:cNvPr id="70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347760" y="3243240"/>
              <a:ext cx="241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3276720"/>
              <a:ext cx="23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Бедная Лиз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13"/>
          <p:cNvGrpSpPr/>
          <p:nvPr/>
        </p:nvGrpSpPr>
        <p:grpSpPr>
          <a:xfrm>
            <a:off x="6443640" y="2712960"/>
            <a:ext cx="2498760" cy="438120"/>
            <a:chOff x="6443640" y="2712960"/>
            <a:chExt cx="2498760" cy="438120"/>
          </a:xfrm>
        </p:grpSpPr>
        <p:pic>
          <p:nvPicPr>
            <p:cNvPr id="73" name="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6443640" y="2712960"/>
              <a:ext cx="24987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477120" y="27432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Дремучий лес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14"/>
          <p:cNvGrpSpPr/>
          <p:nvPr/>
        </p:nvGrpSpPr>
        <p:grpSpPr>
          <a:xfrm>
            <a:off x="3170160" y="2023920"/>
            <a:ext cx="2492280" cy="438120"/>
            <a:chOff x="3170160" y="2023920"/>
            <a:chExt cx="2492280" cy="438120"/>
          </a:xfrm>
        </p:grpSpPr>
        <p:pic>
          <p:nvPicPr>
            <p:cNvPr id="76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3170160" y="2023920"/>
              <a:ext cx="2492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200400" y="20574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Чувствительный и холодный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15"/>
          <p:cNvGrpSpPr/>
          <p:nvPr/>
        </p:nvGrpSpPr>
        <p:grpSpPr>
          <a:xfrm>
            <a:off x="6443640" y="3243240"/>
            <a:ext cx="2498760" cy="438120"/>
            <a:chOff x="6443640" y="3243240"/>
            <a:chExt cx="2498760" cy="438120"/>
          </a:xfrm>
        </p:grpSpPr>
        <p:pic>
          <p:nvPicPr>
            <p:cNvPr id="79" name="Прямоугольник 15" descr=""/>
            <p:cNvPicPr/>
            <p:nvPr/>
          </p:nvPicPr>
          <p:blipFill>
            <a:blip r:embed="rId12"/>
            <a:stretch/>
          </p:blipFill>
          <p:spPr>
            <a:xfrm>
              <a:off x="6443640" y="3243240"/>
              <a:ext cx="24987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477120" y="327672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16"/>
          <p:cNvGrpSpPr/>
          <p:nvPr/>
        </p:nvGrpSpPr>
        <p:grpSpPr>
          <a:xfrm>
            <a:off x="5456160" y="5681520"/>
            <a:ext cx="2797200" cy="438120"/>
            <a:chOff x="5456160" y="5681520"/>
            <a:chExt cx="2797200" cy="438120"/>
          </a:xfrm>
        </p:grpSpPr>
        <p:pic>
          <p:nvPicPr>
            <p:cNvPr id="82" name="Прямоугольник 16" descr=""/>
            <p:cNvPicPr/>
            <p:nvPr/>
          </p:nvPicPr>
          <p:blipFill>
            <a:blip r:embed="rId13"/>
            <a:stretch/>
          </p:blipFill>
          <p:spPr>
            <a:xfrm>
              <a:off x="5456160" y="5681520"/>
              <a:ext cx="2797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486400" y="5715000"/>
              <a:ext cx="2743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Бедная Лиз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17"/>
          <p:cNvGrpSpPr/>
          <p:nvPr/>
        </p:nvGrpSpPr>
        <p:grpSpPr>
          <a:xfrm>
            <a:off x="3170160" y="1566720"/>
            <a:ext cx="2492280" cy="438120"/>
            <a:chOff x="3170160" y="1566720"/>
            <a:chExt cx="2492280" cy="438120"/>
          </a:xfrm>
        </p:grpSpPr>
        <p:pic>
          <p:nvPicPr>
            <p:cNvPr id="85" name="Прямоугольник 17" descr=""/>
            <p:cNvPicPr/>
            <p:nvPr/>
          </p:nvPicPr>
          <p:blipFill>
            <a:blip r:embed="rId14"/>
            <a:stretch/>
          </p:blipFill>
          <p:spPr>
            <a:xfrm>
              <a:off x="3170160" y="1566720"/>
              <a:ext cx="2492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00400" y="16002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Бедная Лиз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18"/>
          <p:cNvGrpSpPr/>
          <p:nvPr/>
        </p:nvGrpSpPr>
        <p:grpSpPr>
          <a:xfrm>
            <a:off x="3170160" y="1109520"/>
            <a:ext cx="2492280" cy="438120"/>
            <a:chOff x="3170160" y="1109520"/>
            <a:chExt cx="2492280" cy="438120"/>
          </a:xfrm>
        </p:grpSpPr>
        <p:pic>
          <p:nvPicPr>
            <p:cNvPr id="88" name="Прямоугольник 18" descr=""/>
            <p:cNvPicPr/>
            <p:nvPr/>
          </p:nvPicPr>
          <p:blipFill>
            <a:blip r:embed="rId15"/>
            <a:stretch/>
          </p:blipFill>
          <p:spPr>
            <a:xfrm>
              <a:off x="3170160" y="1109520"/>
              <a:ext cx="2492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200400" y="11430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Наталья, боярская дочь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19"/>
          <p:cNvGrpSpPr/>
          <p:nvPr/>
        </p:nvGrpSpPr>
        <p:grpSpPr>
          <a:xfrm>
            <a:off x="5456160" y="6138720"/>
            <a:ext cx="2797200" cy="438120"/>
            <a:chOff x="5456160" y="6138720"/>
            <a:chExt cx="2797200" cy="438120"/>
          </a:xfrm>
        </p:grpSpPr>
        <p:pic>
          <p:nvPicPr>
            <p:cNvPr id="91" name="Прямоугольник 19" descr=""/>
            <p:cNvPicPr/>
            <p:nvPr/>
          </p:nvPicPr>
          <p:blipFill>
            <a:blip r:embed="rId16"/>
            <a:stretch/>
          </p:blipFill>
          <p:spPr>
            <a:xfrm>
              <a:off x="5456160" y="6138720"/>
              <a:ext cx="2797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86400" y="6172200"/>
              <a:ext cx="2743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Прямоугольник 20"/>
          <p:cNvGrpSpPr/>
          <p:nvPr/>
        </p:nvGrpSpPr>
        <p:grpSpPr>
          <a:xfrm>
            <a:off x="731880" y="6218280"/>
            <a:ext cx="2724120" cy="438120"/>
            <a:chOff x="731880" y="6218280"/>
            <a:chExt cx="2724120" cy="438120"/>
          </a:xfrm>
        </p:grpSpPr>
        <p:pic>
          <p:nvPicPr>
            <p:cNvPr id="94" name="Прямоугольник 20" descr=""/>
            <p:cNvPicPr/>
            <p:nvPr/>
          </p:nvPicPr>
          <p:blipFill>
            <a:blip r:embed="rId17"/>
            <a:stretch/>
          </p:blipFill>
          <p:spPr>
            <a:xfrm>
              <a:off x="731880" y="6218280"/>
              <a:ext cx="27241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2120" y="6248520"/>
              <a:ext cx="2666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Прямоугольник 21"/>
          <p:cNvGrpSpPr/>
          <p:nvPr/>
        </p:nvGrpSpPr>
        <p:grpSpPr>
          <a:xfrm>
            <a:off x="347760" y="3700440"/>
            <a:ext cx="2419200" cy="438120"/>
            <a:chOff x="347760" y="3700440"/>
            <a:chExt cx="2419200" cy="438120"/>
          </a:xfrm>
        </p:grpSpPr>
        <p:pic>
          <p:nvPicPr>
            <p:cNvPr id="97" name="Прямоугольник 21" descr=""/>
            <p:cNvPicPr/>
            <p:nvPr/>
          </p:nvPicPr>
          <p:blipFill>
            <a:blip r:embed="rId18"/>
            <a:stretch/>
          </p:blipFill>
          <p:spPr>
            <a:xfrm>
              <a:off x="347760" y="3700440"/>
              <a:ext cx="241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80880" y="3733920"/>
              <a:ext cx="23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рямоугольник 22"/>
          <p:cNvGrpSpPr/>
          <p:nvPr/>
        </p:nvGrpSpPr>
        <p:grpSpPr>
          <a:xfrm>
            <a:off x="3170160" y="2560680"/>
            <a:ext cx="2492280" cy="438120"/>
            <a:chOff x="3170160" y="2560680"/>
            <a:chExt cx="2492280" cy="438120"/>
          </a:xfrm>
        </p:grpSpPr>
        <p:pic>
          <p:nvPicPr>
            <p:cNvPr id="100" name="Прямоугольник 22" descr=""/>
            <p:cNvPicPr/>
            <p:nvPr/>
          </p:nvPicPr>
          <p:blipFill>
            <a:blip r:embed="rId19"/>
            <a:stretch/>
          </p:blipFill>
          <p:spPr>
            <a:xfrm>
              <a:off x="3170160" y="2560680"/>
              <a:ext cx="2492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200400" y="259092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066680"/>
            <a:ext cx="4038480" cy="505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знал (а)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понял (а), ч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научился (ась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ня удиви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приобрел (а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Desktop\newspic_big.jpg"/>
          <p:cNvPicPr/>
          <p:nvPr/>
        </p:nvPicPr>
        <p:blipFill>
          <a:blip r:embed="rId1"/>
          <a:stretch/>
        </p:blipFill>
        <p:spPr>
          <a:xfrm>
            <a:off x="4572000" y="76212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6-12-01T19:43:4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