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7F3-1AEE-4383-B0FB-93A510D3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33F-9D00-4D44-9ACD-59D2D161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1A3-C00E-4744-9F93-05A3D315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60F-CE9E-4269-A2C8-1DDD2970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3EA7-7F51-4E70-A4AA-B0A7FDDD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BF3-6379-4D1F-BB21-D2A9655C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185-4086-474E-8BFD-054F90F4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5DB-A7A9-43BE-9083-3116CA88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758-9441-47D3-8335-834D0DA0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B68-B235-4615-B323-FB998A86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201-0D7E-4E66-9D52-6362E6A2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87D-F65B-4D9D-869F-2A197615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E3CB-8996-4E04-8B17-BFFA5CD4D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10.png"/><Relationship Id="rId19" Type="http://schemas.openxmlformats.org/officeDocument/2006/relationships/image" Target="../media/image21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841e"/>
                </a:solidFill>
                <a:latin typeface="Monotype Corsiva"/>
              </a:rPr>
              <a:t>Н.М.Карамзи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4760" y="1219320"/>
            <a:ext cx="3352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Пис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Поэ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Сказоч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Историо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Основатель русского сентимент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Публиц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Филосо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Поли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Лингв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Реформатор 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Перевод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Патри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Кри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48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48900"/>
                </a:solidFill>
                <a:latin typeface="Arial"/>
              </a:rPr>
              <a:t>Путешестве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17" descr="Рисунок1.jpg"/>
          <p:cNvPicPr/>
          <p:nvPr/>
        </p:nvPicPr>
        <p:blipFill>
          <a:blip r:embed="rId2"/>
          <a:stretch/>
        </p:blipFill>
        <p:spPr>
          <a:xfrm>
            <a:off x="5638680" y="2743200"/>
            <a:ext cx="29149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520" y="1447560"/>
            <a:ext cx="40388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8900"/>
                </a:solidFill>
                <a:latin typeface="Arial"/>
              </a:rPr>
              <a:t>«…чистая,  высокая  слава  Карамзина  принадлежит 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8900"/>
                </a:solidFill>
                <a:latin typeface="Arial"/>
              </a:rPr>
              <a:t>А.С. Пуш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D:\Desktop\hohmodrom_3049.jpg"/>
          <p:cNvPicPr/>
          <p:nvPr/>
        </p:nvPicPr>
        <p:blipFill>
          <a:blip r:embed="rId1"/>
          <a:stretch/>
        </p:blipFill>
        <p:spPr>
          <a:xfrm>
            <a:off x="4495680" y="468360"/>
            <a:ext cx="44197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7094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2274840"/>
                <a:gridCol w="1382760"/>
              </a:tblGrid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ЧЕСТЬ И БЕСЧЕ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Monotype Corsiva"/>
                        </a:rPr>
                        <a:t>«Страшнее чести изменить, чем быть в отрепьях рваных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Monotype Corsiv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Monotype Corsiva"/>
                        </a:rPr>
                        <a:t>(Р. Берн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ДРУЖБА И ВРАЖ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Monotype Corsiva"/>
                        </a:rPr>
                        <a:t>«Тот тебе друг, кто в несчастье помогает делом, когда в этом есть необходимость»  (Плав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ПОБЕДА И ПО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Monotype Corsiva"/>
                        </a:rPr>
                        <a:t>«Все победы начинаются с победы над самим собо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Monotype Corsiva"/>
                        </a:rPr>
                        <a:t>(Л. Леон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ПЫТ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ШИБ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Monotype Corsiva"/>
                        </a:rPr>
                        <a:t>«Страх перед возможностью ошибки не должен отвратить нас от поисков истин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Monotype Corsiva"/>
                        </a:rPr>
                        <a:t>(Гельвец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РАЗУМ И ЧУВ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Ясаков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ергеева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Жабин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Шадрина 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Настека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агорина 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Овакимян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Рысае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Обрезанова 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аранов 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Рыжова 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Каюкова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Глухов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околова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Ярмухаметов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4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Пушк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питанская доч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Евгений Онег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убровски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 Достоев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дио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Горь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дн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Пушк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Евгений Онег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Гончаров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блом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Турген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тцы и де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Толст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ойна и ми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Экзюпе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аленький принц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Грибо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оре от ум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Пушки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Евгений Онег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Гончар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блом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Достоев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реступление и наказани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Толст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ётр Перв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Лермо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Герой нашего времен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Толст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ойна и ми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Шолох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удьба челове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. Паустовский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леграмм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. Уайль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рет Дориана Гре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bc5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Новый ри_0"/>
          <p:cNvPicPr/>
          <p:nvPr/>
        </p:nvPicPr>
        <p:blipFill>
          <a:blip r:embed="rId1"/>
          <a:stretch/>
        </p:blipFill>
        <p:spPr>
          <a:xfrm>
            <a:off x="3581280" y="3276720"/>
            <a:ext cx="1704960" cy="227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48" name="Овал 5"/>
          <p:cNvGrpSpPr/>
          <p:nvPr/>
        </p:nvGrpSpPr>
        <p:grpSpPr>
          <a:xfrm>
            <a:off x="731880" y="1719360"/>
            <a:ext cx="1657440" cy="974520"/>
            <a:chOff x="731880" y="1719360"/>
            <a:chExt cx="1657440" cy="974520"/>
          </a:xfrm>
        </p:grpSpPr>
        <p:pic>
          <p:nvPicPr>
            <p:cNvPr id="49" name="Овал 5" descr=""/>
            <p:cNvPicPr/>
            <p:nvPr/>
          </p:nvPicPr>
          <p:blipFill>
            <a:blip r:embed="rId2"/>
            <a:stretch/>
          </p:blipFill>
          <p:spPr>
            <a:xfrm>
              <a:off x="731880" y="1719360"/>
              <a:ext cx="16574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996840" y="1886040"/>
              <a:ext cx="11304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26300"/>
                  </a:solidFill>
                  <a:latin typeface="Arial"/>
                </a:rPr>
                <a:t>ЧЕСТЬ И БЕСЧЕСТ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Овал 6"/>
          <p:cNvGrpSpPr/>
          <p:nvPr/>
        </p:nvGrpSpPr>
        <p:grpSpPr>
          <a:xfrm>
            <a:off x="6827760" y="1719360"/>
            <a:ext cx="1719360" cy="974520"/>
            <a:chOff x="6827760" y="1719360"/>
            <a:chExt cx="1719360" cy="974520"/>
          </a:xfrm>
        </p:grpSpPr>
        <p:pic>
          <p:nvPicPr>
            <p:cNvPr id="52" name="Овал 6" descr=""/>
            <p:cNvPicPr/>
            <p:nvPr/>
          </p:nvPicPr>
          <p:blipFill>
            <a:blip r:embed="rId3"/>
            <a:stretch/>
          </p:blipFill>
          <p:spPr>
            <a:xfrm>
              <a:off x="6827760" y="1719360"/>
              <a:ext cx="171936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104240" y="1886040"/>
              <a:ext cx="11840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26300"/>
                  </a:solidFill>
                  <a:latin typeface="Arial"/>
                </a:rPr>
                <a:t>ПОБЕДА И ПОРАЖ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Овал 7"/>
          <p:cNvGrpSpPr/>
          <p:nvPr/>
        </p:nvGrpSpPr>
        <p:grpSpPr>
          <a:xfrm>
            <a:off x="6138720" y="4694400"/>
            <a:ext cx="1505160" cy="957240"/>
            <a:chOff x="6138720" y="4694400"/>
            <a:chExt cx="1505160" cy="957240"/>
          </a:xfrm>
        </p:grpSpPr>
        <p:pic>
          <p:nvPicPr>
            <p:cNvPr id="55" name="Овал 7" descr=""/>
            <p:cNvPicPr/>
            <p:nvPr/>
          </p:nvPicPr>
          <p:blipFill>
            <a:blip r:embed="rId4"/>
            <a:stretch/>
          </p:blipFill>
          <p:spPr>
            <a:xfrm>
              <a:off x="6138720" y="4694400"/>
              <a:ext cx="15051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384960" y="4857840"/>
              <a:ext cx="10224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26300"/>
                  </a:solidFill>
                  <a:latin typeface="Arial"/>
                </a:rPr>
                <a:t>ОПЫТ И ОШИБ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Овал 8"/>
          <p:cNvGrpSpPr/>
          <p:nvPr/>
        </p:nvGrpSpPr>
        <p:grpSpPr>
          <a:xfrm>
            <a:off x="3548160" y="122400"/>
            <a:ext cx="1504800" cy="968040"/>
            <a:chOff x="3548160" y="122400"/>
            <a:chExt cx="1504800" cy="968040"/>
          </a:xfrm>
        </p:grpSpPr>
        <p:pic>
          <p:nvPicPr>
            <p:cNvPr id="58" name="Овал 8" descr=""/>
            <p:cNvPicPr/>
            <p:nvPr/>
          </p:nvPicPr>
          <p:blipFill>
            <a:blip r:embed="rId5"/>
            <a:stretch/>
          </p:blipFill>
          <p:spPr>
            <a:xfrm>
              <a:off x="3548160" y="122400"/>
              <a:ext cx="150480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794040" y="285840"/>
              <a:ext cx="10224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26300"/>
                  </a:solidFill>
                  <a:latin typeface="Arial"/>
                </a:rPr>
                <a:t>РАЗУМ И ЧУВ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Овал 9"/>
          <p:cNvGrpSpPr/>
          <p:nvPr/>
        </p:nvGrpSpPr>
        <p:grpSpPr>
          <a:xfrm>
            <a:off x="1262160" y="4694400"/>
            <a:ext cx="1504800" cy="968040"/>
            <a:chOff x="1262160" y="4694400"/>
            <a:chExt cx="1504800" cy="968040"/>
          </a:xfrm>
        </p:grpSpPr>
        <p:pic>
          <p:nvPicPr>
            <p:cNvPr id="61" name="Овал 9" descr=""/>
            <p:cNvPicPr/>
            <p:nvPr/>
          </p:nvPicPr>
          <p:blipFill>
            <a:blip r:embed="rId6"/>
            <a:stretch/>
          </p:blipFill>
          <p:spPr>
            <a:xfrm>
              <a:off x="1262160" y="4694400"/>
              <a:ext cx="1504800" cy="96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508040" y="4857840"/>
              <a:ext cx="10224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826300"/>
                  </a:solidFill>
                  <a:latin typeface="Arial"/>
                </a:rPr>
                <a:t>ДРУЖБА И ВРАЖ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Прямоугольник 10"/>
          <p:cNvGrpSpPr/>
          <p:nvPr/>
        </p:nvGrpSpPr>
        <p:grpSpPr>
          <a:xfrm>
            <a:off x="347760" y="2712960"/>
            <a:ext cx="2419200" cy="438120"/>
            <a:chOff x="347760" y="2712960"/>
            <a:chExt cx="2419200" cy="438120"/>
          </a:xfrm>
        </p:grpSpPr>
        <p:pic>
          <p:nvPicPr>
            <p:cNvPr id="64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347760" y="2712960"/>
              <a:ext cx="24192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880" y="2743200"/>
              <a:ext cx="2362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Наталья, боярская дочь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Прямоугольник 11"/>
          <p:cNvGrpSpPr/>
          <p:nvPr/>
        </p:nvGrpSpPr>
        <p:grpSpPr>
          <a:xfrm>
            <a:off x="731880" y="5761080"/>
            <a:ext cx="2724120" cy="438120"/>
            <a:chOff x="731880" y="5761080"/>
            <a:chExt cx="2724120" cy="438120"/>
          </a:xfrm>
        </p:grpSpPr>
        <p:pic>
          <p:nvPicPr>
            <p:cNvPr id="67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31880" y="5761080"/>
              <a:ext cx="272412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62120" y="5791320"/>
              <a:ext cx="2666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Чувствительный и холодный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12"/>
          <p:cNvGrpSpPr/>
          <p:nvPr/>
        </p:nvGrpSpPr>
        <p:grpSpPr>
          <a:xfrm>
            <a:off x="347760" y="3243240"/>
            <a:ext cx="2419200" cy="438120"/>
            <a:chOff x="347760" y="3243240"/>
            <a:chExt cx="2419200" cy="438120"/>
          </a:xfrm>
        </p:grpSpPr>
        <p:pic>
          <p:nvPicPr>
            <p:cNvPr id="70" name="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347760" y="3243240"/>
              <a:ext cx="24192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80880" y="3276720"/>
              <a:ext cx="2362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Бедная Лиза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рямоугольник 13"/>
          <p:cNvGrpSpPr/>
          <p:nvPr/>
        </p:nvGrpSpPr>
        <p:grpSpPr>
          <a:xfrm>
            <a:off x="6443640" y="2712960"/>
            <a:ext cx="2498760" cy="438120"/>
            <a:chOff x="6443640" y="2712960"/>
            <a:chExt cx="2498760" cy="438120"/>
          </a:xfrm>
        </p:grpSpPr>
        <p:pic>
          <p:nvPicPr>
            <p:cNvPr id="73" name="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6443640" y="2712960"/>
              <a:ext cx="24987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477120" y="274320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Дремучий лес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14"/>
          <p:cNvGrpSpPr/>
          <p:nvPr/>
        </p:nvGrpSpPr>
        <p:grpSpPr>
          <a:xfrm>
            <a:off x="3170160" y="2023920"/>
            <a:ext cx="2492280" cy="438120"/>
            <a:chOff x="3170160" y="2023920"/>
            <a:chExt cx="2492280" cy="438120"/>
          </a:xfrm>
        </p:grpSpPr>
        <p:pic>
          <p:nvPicPr>
            <p:cNvPr id="76" name="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3170160" y="2023920"/>
              <a:ext cx="24922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200400" y="205740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Чувствительный и холодный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Прямоугольник 15"/>
          <p:cNvGrpSpPr/>
          <p:nvPr/>
        </p:nvGrpSpPr>
        <p:grpSpPr>
          <a:xfrm>
            <a:off x="6443640" y="3243240"/>
            <a:ext cx="2498760" cy="438120"/>
            <a:chOff x="6443640" y="3243240"/>
            <a:chExt cx="2498760" cy="438120"/>
          </a:xfrm>
        </p:grpSpPr>
        <p:pic>
          <p:nvPicPr>
            <p:cNvPr id="79" name="Прямоугольник 15" descr=""/>
            <p:cNvPicPr/>
            <p:nvPr/>
          </p:nvPicPr>
          <p:blipFill>
            <a:blip r:embed="rId12"/>
            <a:stretch/>
          </p:blipFill>
          <p:spPr>
            <a:xfrm>
              <a:off x="6443640" y="3243240"/>
              <a:ext cx="24987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477120" y="327672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История Государства Российского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Прямоугольник 16"/>
          <p:cNvGrpSpPr/>
          <p:nvPr/>
        </p:nvGrpSpPr>
        <p:grpSpPr>
          <a:xfrm>
            <a:off x="5456160" y="5681520"/>
            <a:ext cx="2797200" cy="438120"/>
            <a:chOff x="5456160" y="5681520"/>
            <a:chExt cx="2797200" cy="438120"/>
          </a:xfrm>
        </p:grpSpPr>
        <p:pic>
          <p:nvPicPr>
            <p:cNvPr id="82" name="Прямоугольник 16" descr=""/>
            <p:cNvPicPr/>
            <p:nvPr/>
          </p:nvPicPr>
          <p:blipFill>
            <a:blip r:embed="rId13"/>
            <a:stretch/>
          </p:blipFill>
          <p:spPr>
            <a:xfrm>
              <a:off x="5456160" y="5681520"/>
              <a:ext cx="27972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486400" y="5715000"/>
              <a:ext cx="2743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Бедная Лиза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17"/>
          <p:cNvGrpSpPr/>
          <p:nvPr/>
        </p:nvGrpSpPr>
        <p:grpSpPr>
          <a:xfrm>
            <a:off x="3170160" y="1566720"/>
            <a:ext cx="2492280" cy="438120"/>
            <a:chOff x="3170160" y="1566720"/>
            <a:chExt cx="2492280" cy="438120"/>
          </a:xfrm>
        </p:grpSpPr>
        <p:pic>
          <p:nvPicPr>
            <p:cNvPr id="85" name="Прямоугольник 17" descr=""/>
            <p:cNvPicPr/>
            <p:nvPr/>
          </p:nvPicPr>
          <p:blipFill>
            <a:blip r:embed="rId14"/>
            <a:stretch/>
          </p:blipFill>
          <p:spPr>
            <a:xfrm>
              <a:off x="3170160" y="1566720"/>
              <a:ext cx="24922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200400" y="160020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Бедная Лиза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рямоугольник 18"/>
          <p:cNvGrpSpPr/>
          <p:nvPr/>
        </p:nvGrpSpPr>
        <p:grpSpPr>
          <a:xfrm>
            <a:off x="3170160" y="1109520"/>
            <a:ext cx="2492280" cy="438120"/>
            <a:chOff x="3170160" y="1109520"/>
            <a:chExt cx="2492280" cy="438120"/>
          </a:xfrm>
        </p:grpSpPr>
        <p:pic>
          <p:nvPicPr>
            <p:cNvPr id="88" name="Прямоугольник 18" descr=""/>
            <p:cNvPicPr/>
            <p:nvPr/>
          </p:nvPicPr>
          <p:blipFill>
            <a:blip r:embed="rId15"/>
            <a:stretch/>
          </p:blipFill>
          <p:spPr>
            <a:xfrm>
              <a:off x="3170160" y="1109520"/>
              <a:ext cx="24922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200400" y="114300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Наталья, боярская дочь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Прямоугольник 19"/>
          <p:cNvGrpSpPr/>
          <p:nvPr/>
        </p:nvGrpSpPr>
        <p:grpSpPr>
          <a:xfrm>
            <a:off x="5456160" y="6138720"/>
            <a:ext cx="2797200" cy="438120"/>
            <a:chOff x="5456160" y="6138720"/>
            <a:chExt cx="2797200" cy="438120"/>
          </a:xfrm>
        </p:grpSpPr>
        <p:pic>
          <p:nvPicPr>
            <p:cNvPr id="91" name="Прямоугольник 19" descr=""/>
            <p:cNvPicPr/>
            <p:nvPr/>
          </p:nvPicPr>
          <p:blipFill>
            <a:blip r:embed="rId16"/>
            <a:stretch/>
          </p:blipFill>
          <p:spPr>
            <a:xfrm>
              <a:off x="5456160" y="6138720"/>
              <a:ext cx="27972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486400" y="6172200"/>
              <a:ext cx="2743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История Государства Российского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Прямоугольник 20"/>
          <p:cNvGrpSpPr/>
          <p:nvPr/>
        </p:nvGrpSpPr>
        <p:grpSpPr>
          <a:xfrm>
            <a:off x="731880" y="6218280"/>
            <a:ext cx="2724120" cy="438120"/>
            <a:chOff x="731880" y="6218280"/>
            <a:chExt cx="2724120" cy="438120"/>
          </a:xfrm>
        </p:grpSpPr>
        <p:pic>
          <p:nvPicPr>
            <p:cNvPr id="94" name="Прямоугольник 20" descr=""/>
            <p:cNvPicPr/>
            <p:nvPr/>
          </p:nvPicPr>
          <p:blipFill>
            <a:blip r:embed="rId17"/>
            <a:stretch/>
          </p:blipFill>
          <p:spPr>
            <a:xfrm>
              <a:off x="731880" y="6218280"/>
              <a:ext cx="272412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62120" y="6248520"/>
              <a:ext cx="2666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История Государства Российского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Прямоугольник 21"/>
          <p:cNvGrpSpPr/>
          <p:nvPr/>
        </p:nvGrpSpPr>
        <p:grpSpPr>
          <a:xfrm>
            <a:off x="347760" y="3700440"/>
            <a:ext cx="2419200" cy="438120"/>
            <a:chOff x="347760" y="3700440"/>
            <a:chExt cx="2419200" cy="438120"/>
          </a:xfrm>
        </p:grpSpPr>
        <p:pic>
          <p:nvPicPr>
            <p:cNvPr id="97" name="Прямоугольник 21" descr=""/>
            <p:cNvPicPr/>
            <p:nvPr/>
          </p:nvPicPr>
          <p:blipFill>
            <a:blip r:embed="rId18"/>
            <a:stretch/>
          </p:blipFill>
          <p:spPr>
            <a:xfrm>
              <a:off x="347760" y="3700440"/>
              <a:ext cx="24192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80880" y="3733920"/>
              <a:ext cx="2362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История Государства Российского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Прямоугольник 22"/>
          <p:cNvGrpSpPr/>
          <p:nvPr/>
        </p:nvGrpSpPr>
        <p:grpSpPr>
          <a:xfrm>
            <a:off x="3170160" y="2560680"/>
            <a:ext cx="2492280" cy="438120"/>
            <a:chOff x="3170160" y="2560680"/>
            <a:chExt cx="2492280" cy="438120"/>
          </a:xfrm>
        </p:grpSpPr>
        <p:pic>
          <p:nvPicPr>
            <p:cNvPr id="100" name="Прямоугольник 22" descr=""/>
            <p:cNvPicPr/>
            <p:nvPr/>
          </p:nvPicPr>
          <p:blipFill>
            <a:blip r:embed="rId19"/>
            <a:stretch/>
          </p:blipFill>
          <p:spPr>
            <a:xfrm>
              <a:off x="3170160" y="2560680"/>
              <a:ext cx="24922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200400" y="2590920"/>
              <a:ext cx="2438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c00000"/>
                  </a:solidFill>
                  <a:latin typeface="Arial"/>
                </a:rPr>
                <a:t>«История Государства Российского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066680"/>
            <a:ext cx="4038480" cy="505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 знал (а)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 понял (а), ч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 научился (ась)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ня удивил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 приобрел (а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D:\Desktop\newspic_big.jpg"/>
          <p:cNvPicPr/>
          <p:nvPr/>
        </p:nvPicPr>
        <p:blipFill>
          <a:blip r:embed="rId1"/>
          <a:stretch/>
        </p:blipFill>
        <p:spPr>
          <a:xfrm>
            <a:off x="4572000" y="762120"/>
            <a:ext cx="4419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6-12-01T19:43:4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